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5E6828-83A4-477E-B325-EB2D8C4E343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51C48A-0FDC-4EF8-8292-E1FC1978DFB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5A1E19-4DD9-4EFC-AB12-282B55EBF55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904E7E4-3FAA-4856-BF82-68BB5A5883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2C865D-F4C8-4C73-B0F3-84D1725843D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E18E9FD-CBA9-46E7-8DF9-053E46A0CC5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67A7B61-0FA3-4268-A42F-18428CB1AD6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CDF96AE-DABF-445A-A8A6-CB6B5B75D6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12079D-C4A2-4C84-A274-029A1BF2E99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4F3E45-7796-4129-8721-5157DF3C91E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8C11C9E-A182-4911-A056-4E9629AFFA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D9D3FD9-5282-4956-BEDC-B689CEAE5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A7CE54-FB29-46BB-94ED-6F1071B994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C21CE2-C04F-406D-B980-432DA52B9C2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969EF9-6033-4F62-83E6-6FBB195A9C1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97D73D8-DA1D-407D-929C-7C9E4D59E7D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8BEFF8-E09C-47D6-81D0-346871D188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A39C86-35B0-4B7C-B8A3-80289EF4F7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2919F7-2ED6-4118-BB17-1E0BF4F0D3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936117-8D48-42D4-B482-935E1541B5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A5A5D6-7A0B-40EE-8222-FD37121AAC0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CCE0B5-CA77-47F3-B212-A5E69D7F46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C0933F-97AE-42A4-BA7D-6FB26D7A10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10C6B3-B799-4A9D-BC5E-FE4521967EA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C86396-B5D1-49E7-B817-5138AF3FFDB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B9B5F2-E0A1-49B7-B7BA-B3EF7DA5369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066A263-F48C-4649-B657-433CECF602D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782E950-E9FC-4350-9080-850A7650AB9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B2908E-391C-4FEB-9BB8-9C61C28116AC}"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0A643B-4E38-4C21-8877-907E3BBD16E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282CCA-1861-4D4D-8BA2-DA89A4C5F2A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FEEDA-5844-407C-94C2-6B7FE7571B4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149D8-18F0-430A-B5F4-234CEEB6F6D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EC8A0F-673B-4099-9F9F-A94B6C6D557A}"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046461-9969-497F-B1BF-4AD90D140D9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D236FB-F515-4F46-AFBE-1DDEED17F2F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AD595B-D6DD-4526-A539-BB5C466A9DA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D0C896-0F35-4CEA-B223-120CCAC9764D}"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450798-94FF-43BF-AEFE-7FEC6D6EEE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3EF8B0-F27D-4389-AED0-1F2769BED89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A54D44-AA94-4B23-9175-EF046A7B794D}"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6E08AF-7138-4380-9F7D-10554DF1E66A}"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7E1CF4-2783-479A-9BE9-1B8A7FAA4C2B}"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9A59C8-05F7-4AD9-B712-68B8BDF4742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6D9E2C-1AC4-447B-A36B-8EBC5825059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74A1F-7480-4425-A12A-53BDF17EE799}"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8BD65B-4DF8-45D4-82EB-6CED777F763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7411B2-E609-4A93-B44D-1E869372094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20386-7FF9-4092-BEFF-7335672BA87E}"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D8CDA5-8352-43A3-B3B9-FB01041A8570}"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9EEFBF-B443-4F3B-9A9E-A5E6A7F2D021}"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18DFB-2712-489F-8734-87A2B065C95F}"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0C2570-00B7-4DE9-AD6C-E74D7C4B68E9}"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0498576-6DB0-42A5-9365-790B47F7A7F6}"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7255A6-5C14-40AD-954B-4D1543F843F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9E5788-D373-406C-B5C6-74F4782F12D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0C9DC-9EBD-4186-8D3E-5968A2A3B3E3}"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03E83C-3AFF-44B1-BED7-AFF6A471EEB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6B05BD-74D0-4616-ABE9-30B6B2AEBBB4}"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E904B2-E3D3-4975-B046-28453ECD0E1B}"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0CD89C-06D6-4C4E-A1E6-C638BC2A7B6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30200-4F80-41F1-A7E7-E471EA5E6F37}"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5BB193-DA89-47E2-8201-46C2D8956029}"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19958A-528B-4F93-B16D-77B0A49D088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D0D39-4BAD-4446-B6DC-CB9D24D20CD6}"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09FDBA-C877-44BB-8461-2F2EEF9C48D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94667C-0E8E-4CCD-BF78-5B3FF8191287}"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3A5E5E-E2BB-42F6-89E5-94354D51AF44}"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D4ACF4-DCF2-4A5B-9590-28A7DC54325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CACA2-3D2D-4200-BE91-ECD418EA60D7}"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886F7-DA04-4360-8749-E7B2F50E1413}"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A0015F-9BA7-40A6-A78A-E7EC00871767}"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087CB4-0CFB-483C-8E77-131C978E84C3}"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69A92-4C3D-4844-967A-FF1B0ECF15D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15A906E-5019-4828-8B04-B65B9750C0F5}"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52344C-5DA1-4029-8D33-3C6370052542}"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EECA4F-868A-4075-AF9F-1F1883C7D366}"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B5A914D-3D27-4CE0-A4EC-FE0F8E2C5300}"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B51FF-3F69-4B72-A80B-4F7434694BA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BF5B47-128D-4EE8-BA68-6FC71787C9F3}"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E78413-435A-4008-A03F-ABE920068883}"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BDECA9-E1AD-4BA7-A303-8696AD7A098A}"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F7E14-1B20-4EA2-8772-D72E73EA85F7}"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94CDD-8A75-4D71-AEF7-DB69F7F83E4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DFCAD6-8261-41D5-A38E-DFCC42BB340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F04EED4-9B2A-4761-851F-9A641909FBE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B50FAA-13D4-4DED-BD95-6F406540D2C6}"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71A7C-AB86-4C70-928B-9794C7EE4A8D}"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F0EE96-715A-472B-9A07-DE3F0AEDD19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59E46-E6C1-41CA-9010-236502F78844}"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B2E44C-C5D1-488B-AAAB-7C37356A3ECB}"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D63028D-3CD1-4B7A-AAF8-3D7BDD872F37}"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EB81AE-3F20-4590-BF5E-3F3D72460D7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C5EDFA-06EC-4232-8A8E-1C610DAD76F3}"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202BB7-C384-491F-A341-FF70A2600E82}"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6098A-7E4D-4C9A-97B5-0BB6C6D2CBFC}"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CFDE4DB-0AD7-49BA-A789-73B98EC73F7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318904-931A-4706-AEE6-8D40365AD536}"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841D46-C978-4C56-B390-ED0D4E2D06B8}"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223F94-A115-4E62-8058-014CAE79A36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FF0AAD-3830-4B4A-8558-29BE24D0F856}"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B825E5-DE92-4915-8467-D5119F198386}"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BE7F0-BA92-40D9-9C2A-41714A6EADF6}"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626AF9-69FE-4AC4-AC68-42CF1F15B25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5F9B-84A2-408B-B05A-B9BFE060BB7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369EB-EB07-4D22-8554-9FECA0B57B13}"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73504-8F40-434C-A05E-54A1BE52F626}"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280B802-D6C0-4863-B000-17B7B84C7DC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82A611-A8FA-4EA7-A63F-A5EFD96B2831}"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B125C9E-9F89-4DEB-BE28-4CE6896D2AB1}"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2DE0C7-57D1-4168-B142-F761EF5A9B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A80048-7658-46CC-B5FA-A3D520AA677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191B91-DB4B-4BBC-8651-FEF0A57A8F0D}"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1D1C21-AB0C-4C03-9ED9-7C955E50CCB3}"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40789A-7D3F-4E65-A426-A23589544226}"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1C09DD-57BA-4EF8-8F07-1B9D93B16E4C}"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2AEBC-5803-498D-AA19-B7B3AA626C0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39309D-4E64-4686-AB31-49F7F7FB13A9}"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A52B1A-18A3-4B17-AF45-D723C1F2D425}"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430BCB-3D8E-4886-AF5D-98E15DFD177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488B9F-E26A-4AD3-B58E-D20983A07C3B}"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B229D8-C77E-4D7F-8B2B-EBCFB85D2C4D}"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E46C37-FF6D-4AD3-A24C-59B183757C5C}"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552B41-88C7-4699-9300-7B97133DA3AC}"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9D0339-42A1-42F0-84F2-CA16B8B961FC}"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096E5E1-D9CB-4FD4-9761-EE5C14EB684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CC4440-C211-44AB-9BD8-A589B1FB403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B59B53-2C5C-4131-80F5-B231D4933EC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8A0B4-C6ED-428E-A78C-39BE22CF797A}"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B1F1F0-F9E6-4A1A-AFC3-FDB0EC937BB7}"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CFB7-6100-4208-96B8-2D4546AE99D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E5D048-6718-4AA9-A326-BC8C7EC2BB61}"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2F5489-57FB-4A72-B10D-4689A151006A}"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A03BFE-24BC-40B0-9D17-DC863CBF4F38}"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A257CE-77B8-44AA-A2F3-1BD5CA82C4B9}"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900AEC-7A96-48D7-B181-3174215BB20C}"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CD6E08-A64A-4C32-ABA2-30CBADB353CC}"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6338F4-F124-4EAC-8E83-2E04E64B721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18543-6DB8-47F0-A2B3-4B20B538131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70AA98-70CE-4398-85EB-648B34A62220}"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FC3773-3454-4DF5-BD08-407E84DB0F27}"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25170E-C62B-46E6-A130-44EBC368C17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2988DD-7323-434E-B34A-8F4D8248E3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03BAD2-1328-4ABE-BB9C-89190F6AA817}"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F85E31-C518-46D9-93FE-CAB420E24C92}"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EF4B4-EE86-4883-8FF3-DCECE5A4432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B8E76-180D-4477-9D42-4F847705337E}"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DA8E63-F3F3-4F66-8D8C-985AB6CDBC36}"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10324-22FB-481A-B78D-AC10B537582C}"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80DA8-C7C2-4009-9ECF-8E26DB03F821}"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AD64CC-7513-49A2-8A2A-6D5FEECABC45}"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F70C9-5974-42B6-A34D-D4045B15236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21B63-9564-4DE8-8681-230E8BD308BF}"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CA2CD5C-B025-4CDF-B61D-BE76F512152E}"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0367A-F336-4E1D-9D14-57F00B0720E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A229-EDAA-42B6-AA92-A51BC6997C3A}"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1EB94B-1164-4D41-8070-8192713C54E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113003-E0AD-4174-8A24-980A915C4EF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A9CF75-24F3-4A48-82DE-296DEB0C231A}"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A94C3A-6FB9-42EF-ADE2-689FA5A6FE3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7C9679-581D-4FD0-887F-14B4FE02E02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CE9F39-53FA-4359-A8DC-82AC65C81FD2}"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66498-E0FA-465A-BBD8-85DCDB8E083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1561D-0AF1-4DBF-81B4-C69AADB9DA4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600EDA-4BEA-4160-9D3A-B802EF13B41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502AC-4746-4580-A0B0-3ADB22375A1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E91957-9A60-4C33-B18E-5B436C1774E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AF6325-74F3-42A3-9BEB-8E113842393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DBC7E8-986B-44DA-9568-DEC80B7EE431}"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946F5-6545-49B1-87F6-CCBE6E6B542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7BEA7E-FCB3-4A63-81D8-B848E34D9F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D38E6-0632-426D-8A6E-5636CAEE1805}"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DD3FF3-2C08-491C-9764-6DA2E8A4FCE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92D6A8-9A9A-4218-A9D8-298E477264B1}"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3A10FA-38C0-40BE-8352-060413357516}"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F25D1-EE20-43C4-988B-854775240EF1}"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AE895D-460A-49CE-9D4B-808D56C499D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318130-906F-4DC1-A597-41AE5DD507D6}"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048405-49A7-4ED3-AF98-77ECE0224FAA}"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30CD9D-E228-49A1-9BC4-A524D867A379}"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18490-3B91-4BC1-98A0-CE8A8221968A}"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27A80-CAC5-45DC-B85C-99625E4CC742}"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C897F-9160-4C62-94DB-FE141B0F1DD0}"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B24C6-55E5-46CB-A931-C658C615EB65}"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ECBA16-0A14-47D0-8513-6CA975B8014E}"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253205-9254-4EE0-95EF-BC60FE9A861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8D66E-1773-45A1-9380-E9AD5352B2D6}"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59269F-8F00-451F-9287-A0BC65F851B0}"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90B5-9CBE-4055-8E07-9F61A47C4CA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11025A-3797-40D0-802E-6B95029188D7}"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3EFAEE-262D-4216-8FEE-835D8490264E}"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A4C42A-1D8A-4722-8356-CC29AD20F7D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795180-7D8F-45DE-8295-97CBDA0EDE59}"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E9F5E-966F-4A36-ADC4-259751CF7F6A}"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618D16-651B-46BB-AF0A-0D3578C9410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75B5-1279-4FB9-9058-9CE34A43487D}"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F8F501-4360-4ABB-934E-F85176887FF8}"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8027CE-31D6-406A-90A4-E529D6BBD69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ED00F-8D9C-4273-9318-4C1C583DCFFC}"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AE138-EAE1-4971-9BC6-E46BA5A2B01D}"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CB8E43-96DA-448A-A305-C52113F9FC9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500F452-75E1-4574-8D75-335C88D2ED6E}"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A940C7-DED6-40E9-BB67-E3FF3734FD1F}"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C43600-9F3A-430B-9374-4ACE4D484B61}"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7D3E6D-FD2E-443A-8719-AC737BDA4E66}"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03C57-AFE3-459D-9378-9E19E1B7E3B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7CC5A1-C91F-4A7C-BBFE-DC62C5AE4382}"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11B636-796A-4791-9840-B808D8305612}"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0D0BBE-FA7E-4844-9117-19CC34DAEF63}"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0A0B03-D3AC-425D-9AC8-21C0C6C7CA28}"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1A45686-2F7D-4FDE-96A4-2F2C2B338A78}"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F95330-E83E-4206-81E5-4931609B9C4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2143F7-5861-4B43-AFC9-17A11129B62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D5D24A-BFB8-4F92-9E11-885AF9765C1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DF4E77-7194-45F7-A2F3-C65447410234}"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D9EC45-D3BD-4828-A8AA-C90DB46F0860}"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C882E-0079-41EF-B045-7A0D55C9E24A}"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23D1BD-4E91-4D10-A92C-EFDD8EFC666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436D75-65F1-4EAD-AF9F-38BFBF07BDB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3FD9A5-D45E-437F-AC93-44AFDF7862F4}"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8C24CC-713F-441C-BAAB-5A900755A24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83B729-556B-465B-B7C8-714873691F9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D42ABC-C191-430E-9E06-D11139C7AEBE}"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3C4683-03A8-4EFF-A7E8-0905FAE94815}"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3425D-C973-4577-9DD6-3A53AE1A2397}"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10146D-732A-410A-BFA8-47D28873A82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763DE-FF95-465F-AE05-AA3A57E6882D}"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2BD5F7-0FCC-4BB0-9349-A7A476BFBD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905B60-04A0-486D-A9D0-9173CCA4D8B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1F73FE-DAA1-45BD-89C7-D76FF3CEF6FF}"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EED66-6D55-441B-862F-41A8A32ECC0B}"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BF27A-36A8-4606-95D4-FE592800117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4EA328-034D-4A25-B97B-9731298802B1}"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4D3789-F4EB-4C7C-973B-8D73F47D8ED8}"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B9B5FA-9884-411F-934B-2F27AE91B31E}"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F9477F-A959-4385-98D5-4972E9A521B9}"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8A4B0-0086-43F2-A804-B9C6832DDA8D}"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76F8E3-F8DA-475D-A103-9DC868BCAC0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7C3C7-8FD4-4951-BBC5-88C74EC5C94D}"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